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66C-556B-4FA8-958B-286FAD7A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EE8-7E11-43C9-BADE-F51D44CC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8C6-F003-4857-8CE3-20F51AE5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EF3-5816-4E72-81D9-49C51F08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0562-F9FA-4802-A9D1-43E84FA3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9C3D-1053-4C94-8915-910840CA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C17F-848D-497A-9AE6-25B1C043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C831-9DDF-4A24-A7DF-887F2B1E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B32C-FFC0-4ADE-A97D-FA7CF4EB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CF2E-29D5-4AAA-B336-6007FBFA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A804-97C7-4991-8AED-366BE500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1C7-97DA-4D22-86C9-8DB79567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188A-3DA2-47EC-B45B-E157ADDE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3022-B1CF-46DD-BF1B-4416BB7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E2B3-7C52-4AED-B95A-090F7A9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8D6D-8C05-444F-92D2-63A02361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58D8-7DCD-404B-A5C9-509088D6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F03D-4B79-49EC-9313-EABFE112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89A-AE1D-4737-A089-99F186A8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9D2-1D65-4A89-A495-C6BC193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041-50CE-46F9-86E3-9589A234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D47-ACA4-424C-BE4F-B041B1CE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36CF-DCA6-4F53-B088-8BCA9B01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8B7-EE38-4E28-9E27-340C07F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6874-3E02-4F1B-9EAD-E2D1B7415A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9DF1-1CFE-4874-8486-BEECCA9B67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acionalni program za prevenciju kolorektalnog karcino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stent dr sc. med. Nataša Ranč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ologija skrining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ziv svim osobama starosti 50 do 70 god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zvršioc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ovi zdravlja (izabrani lekar i preventivni cent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/zavodi za javno zdravl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stroenterolog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rurg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keta/upitnik  o eventualnim simptomima, porpdična I lična anamneza i higijensko-dijetetskim navik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-svako dobija tri primerka testa I uputstvo za izvođenje te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pidemiološke karakteristike kolorektalnog karcinoma u Republici Srbij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igni tumori debelog creva su druga najčešća lokalizacija malignog proce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ake godine oboli oko 3 800 a umre oko 2300 muškaraca i ž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k debelog creva je drugi najčeši uzrok umiranja od malignih bolesti, iza raka pluća kod muškaraca i posle raka dojke kod ž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ktori rizika za rak debelog cre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le četrdesete godine povećava se obolevanje i kod muškaraca i kod ž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1% svih otkrivenih slučajeva raka debelog creva otkriveni su kod starijih od 50 god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adekvatna ishrana (bogata zasićenim mastima i proteinima životinjskog poreikla, sa malo dijetalnih vlaka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jaz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šenje cigare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sledna predispozi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ojanje crevnih poli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dostatk fizičke aktiv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lljevi progr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njivanje obolev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njivanje umir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e ranog otkrivanja raka debelog cre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jčešće korišćeni testov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ovi prisustva okultne krvi (golim okom nevidljivo) u stoli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ktosigmoidoskop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lonoskop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na okulto krvarenje u stol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aj test se pokazao kao prikladan u zdravoj populaciji, jer se jednostavno izvodi i ima nisku cenu košt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zitivan test je indikacija za dalje gastroenterološko ispitivanje, odnosno kolonoskopi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ruka za početno testiranje kod osoba starijih od 50 godina sa prosečnim rizikom za rak debelog cre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obe koje imaju negativan nalaz treba upozoriti da to ne znači da nemaju polip ili rak debelog cre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lonoskopski pregled je znatno skuplji, ali je osetljiviji I otkriva I najmanje lezi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enjuje se kod svih kod kojih je test na prisustvo okultne krvi pozitiv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d osba koje su na visom riziku primenjuje se i pre 50. godine živo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5:45:43Z</dcterms:created>
  <dc:creator>AZURE</dc:creator>
  <dc:description/>
  <dc:language>en-US</dc:language>
  <cp:lastModifiedBy>AZURE</cp:lastModifiedBy>
  <dcterms:modified xsi:type="dcterms:W3CDTF">2011-04-16T16:10:40Z</dcterms:modified>
  <cp:revision>14</cp:revision>
  <dc:subject/>
  <dc:title>Nacionalni program za prevenciju kolorektalnog karcinoma</dc:title>
</cp:coreProperties>
</file>